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93B3E-33EF-4029-83F0-FC9EB3869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60F-5590-43C7-BB28-8AF28060D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1714DF-EB7A-43CE-95A0-F10C69A64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2420-CEB9-4295-8098-86C8F5FE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D47FD-0A8C-4252-9C87-FE8C507D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3C237-7F80-413F-BB27-7939D6DE5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9C033-4EFA-4182-9880-DC38396A5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F7D6E4-2C0E-44C9-A614-FCDDDCCC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0AAF76-8585-4D1D-A1B2-54DF7EE5A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521594-6191-420F-946F-BDECD55FFB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A92B7F-24A7-4FA5-86F2-807F52943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80DBAC-643D-490C-B02F-6866D2289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755-4498-4A51-ACD2-7C69F6DC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73DE8-45C0-43FB-BB02-51763A2BEC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9CB3DC-9D13-4E65-8CAF-ED75A9419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13F2C2-5CCD-457F-AB3E-E1CFF6113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BC175C-7B43-4F6B-85F6-BD488657A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FD81A-7A85-41D0-975D-5A93F845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51335-721E-4F8D-ADA2-16F861B0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DFB242-C081-47FA-A227-C9B737DDE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22053-B274-46BA-A236-346D08308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56AEF9-C30F-49B6-A877-6F41E30C4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5D549F-15A9-45A4-8738-63B98EF33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F62D-3CA6-438C-8356-86A63D910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B430BC-55FE-4F96-A0C6-626438FBF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C20A23-61E1-4BC1-84FC-74004B976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C17678-415E-4333-AF78-580C392F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E75F7C-9E90-4F98-98EA-7E2C9F75F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FDA247-28B9-484D-BC29-B61CB9CE1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C0AA35-0372-4C3E-AF88-27519847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745785-21FE-41DA-8698-5041B5222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079A0-5C45-4850-A3A7-7F8D11CE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193ED-57E5-454F-BE41-24933D9FD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7E5B44-9E0B-4C72-8814-C065123F6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98D6B-314C-43FC-9B53-A8691E33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F6C1C1-250A-4CF5-942E-06E7CB62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52FC7F-BDD1-4D45-9BA1-EFE019B48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A030D1-C6F1-466E-9D7F-A62EAFEAB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546621-B627-4A20-9B9F-F05907F9D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D78AD-D983-4CC6-99DC-33A94731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C7CB32-F3D9-4FF7-A44F-F5214FC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4CAA3A-82DD-4BAC-89E8-4784B6BC9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C66AF8-B9B4-4AE8-87C9-259B2085F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2FB89AC-1803-4BB4-8B7B-C1840A694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34A3B9-9B49-4465-A06F-F9396BF01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E10EA-EF4F-4118-8E1A-A5B19A879F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72A8C1-A576-4D18-8FF4-87269FF45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AB15FE-E242-453C-8E60-7601E2196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E625B1-D7AE-4D52-9D84-9A9B2583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AE3C61-65E1-4C52-9DFE-F3AA01C59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DB793E-8D88-4A30-81FA-D028B1434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6446B8-D99C-44A8-AD8C-AB03C1521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9E61BE7-2814-48CD-8E45-F1084A8B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22C86C0-2BD1-4C5B-BA08-F4EC5277E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E28388-6EF3-430E-82FB-2A0D15715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A74E39-A236-4113-A654-2D460EDAB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645D-0DF9-47A9-94D3-4040E161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19E873-DA11-46A0-8B04-A39954CC2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726778-842F-4FD8-803C-E5270E4F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E1E935-827B-4796-BBF0-F5157E367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2250992-D330-4F5B-AAF1-F6F2111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49C21C-1349-4B68-83E6-0AAE34BA2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7E7481-CC15-4038-BEDA-D517E236C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F4955D-AA18-4231-B1EB-211E2C371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6F67681-3304-41D4-AFB1-DBEB74EA1D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437420-30F1-4B89-862D-EA9039ACD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0FBCA5-8329-436D-B884-0876CCC48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8887B-B8C0-45AC-BCB2-A001ABA0D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A3616A-D1CF-4DDA-AA38-364475D0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9D5CA6-919E-4902-B7BE-F35BC6F1B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FD95E-5060-49E0-B539-91FDB562E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F26BEC6-7206-4726-8C06-66D3E5F6B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46A64-8C15-47E7-AD20-20BFEEB42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550B5B-CD7B-46AD-B8F9-CE159E93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5C1F63-BF69-47C1-9301-7AAFD9F1E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B63DE1-6A96-459F-BE40-63A537CE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06710F-6D2C-4399-8A08-7215B9803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C77326C-775D-4E3B-949F-A5C2AAA1A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B1D93-D202-4C83-9A92-109799A8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746C56-94EB-4B24-ACA4-8213EA334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2D14A3-0A2D-459D-A5E7-70F9E62A9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DC26F05-1020-4798-ACA0-6CF7B7599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BCFEF3-8267-4C9F-A221-8C6668E99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4B132B-8277-4734-855A-0CFE7DA6C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88C951-FDAA-49C8-89B9-1E658B3D7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7AE6DD-61F8-4337-8F04-FA1A7A743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0D18D26-E0D9-4C7F-83DF-CEB476101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5426C0E-E89C-4728-A94F-A23688154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E0F5D6-4DB6-4CAD-BC40-A161DA84A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2CD68-616D-4D4B-B5E1-6E7470CC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59C1A1E-31F2-44BB-B416-F76ED8FE9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98AA596-497C-4430-BBEA-A4F27116E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20269E-99EF-4E15-A24B-2B030A966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2A5B28-C5AA-4796-8E95-C20996F8B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17DFB-92AD-4489-85DE-60A4434C7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CE19282-F511-4FD8-A43B-E6ED49A4D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C1C0A4-E88C-439E-89CB-3020A84C8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C7D10A-D5AE-4184-ADC9-257FC5B0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802577-EA13-4ADA-831A-0C4CCD80D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8FD9173-3A69-4DF0-8F94-A10C55CBF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CA77D-F203-474A-9DC3-B783D141D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1F908A-5679-492C-87FD-97BDD4562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9D3654-0426-4094-BBBA-9FADA65BA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2E3DD8-5222-44B7-B7ED-C44470EAF8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332D3C-2D8A-49F6-BBB1-13D7CAE3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87C10B-7F15-413D-8DB0-5184F7604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ED05B24-18A8-42DE-A276-EA12E138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C09AA4-7937-437D-A69A-A9A69DBB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665819-71AC-4992-8400-389118045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FF96E3-0069-4921-8C89-CB6C6D18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AEDEA57-C63B-453D-AF27-5D3AB527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F901C-D332-4175-8522-2E88356D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A92C-21FD-4B80-8026-C02CAD2D1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75313A-2348-4166-9A93-2092AB70B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97C8814-E309-4C99-A412-260975D5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4E7C6A-D7EE-4EAC-A4F0-B70D50D8A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0737BCD-9E3A-4E16-8975-AFE9EB98A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4AFA4E2-CE09-4F3D-8F8B-FD13BE0A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50EB63-9B7A-404D-A025-48281FDFC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6C3726D-1766-448C-A2F7-B0720EDC9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F4E4855-97FC-4A91-A9C4-1D9C2A67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AA5B3F-0DEA-4A63-9229-694F2B1D5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9B975-3BEB-4BCF-8A0F-DFC032CDC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B74B6-8DDC-4E7E-9271-BDEC7A4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D3BC896-1A70-4244-A03C-9F123589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9AA47B-EB37-4697-8FDB-F703963E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938B057-5FB9-40BD-9997-26270D6D8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0A3988-85D7-4CE7-82BF-595361666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305623-94F5-4AC7-BF53-7A362F743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0AD9EE-F5E6-4914-B4F6-0CF6047B1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0C8297-7A0C-4E83-8334-D94AC634E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E9DFE8-FCB9-4F6B-9287-3CD0D12B0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FB8724-F058-467D-8E86-24E9D8618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925EE-0C93-492F-B2EC-6BC621DA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78155-654F-4241-A8A9-757E4600A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7D2BE09-CD07-43D5-826E-20EF64AE2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B728CC-5B65-4EAF-B702-F5F0C44F7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E5D39A-6DAE-4163-ACDC-CDF36D4F3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E09F40F-1352-4BF9-B4CF-CFA671A0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EA2A324-0274-4404-BA18-4E3A00482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D763E2A-C87B-4A63-8A61-410F344BA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85B282B-5F9C-4E7B-9646-BD9C98BF6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2BC750-9AFB-45B6-9138-9E9D956C0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353162B-E6C4-401F-B130-AA928272D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C46B25-0BDB-4E60-B3E2-4A2E761AB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B100B-408A-4A5F-BEF1-3939755D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C9B9FE3-298C-4C62-8746-C1BAC8F60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7D66693-F851-4BFD-9853-91F3D8C02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D0126D-A976-4D34-B731-E7542001D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B3D46B-6378-44B5-BA35-F3B0DF681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1E3A1B-E299-4BF8-81E0-15353022D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5F8762-798A-4292-A951-535952BE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41E4D6-F1FC-4EAE-9177-0681281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C401DC-E4F9-42EF-A659-B7793AB37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AFADC0C-8481-444F-BAF0-D004B9E4D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9170AE8-BEAF-4657-880B-9E1A343D26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1E384-71D9-4024-B194-3A55C12CA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3FC0D42-873A-4397-94C4-5DE59FA8C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D323A2D-21C3-44DF-B3C8-8BB0C31433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E09399A-2EC1-412E-902F-602B5D720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93EF70E-D372-44FF-AA7F-F2B4A431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E9C8F1-0E18-4F13-862E-A1D3F5905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F698E5E-1519-4303-86B1-0CE5FC24A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F494A9E-A3C7-4964-B896-EEC1FE585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FA3BF9-286F-437C-B098-2F58503E7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92159E-EE1B-4E84-ABE4-C86889FA9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D0CABF-356A-47B0-8463-44C6CB59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819C8-3381-4E33-B86C-311AD7C7B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15E280D-44F7-4F43-86B9-B20BF91FF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18F59F-873E-4458-9897-9069CF412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BFE12E-3D84-4C8E-A6AD-389131DA6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6DE7BF-5A42-4FD6-8660-46D718D22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E689F0-779F-4423-85C3-6EC4C9203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61D97C-6BE9-4BD7-BDBA-C4C9AD97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0FDD1A-F174-4E9D-90F8-C5D1A5668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D9ABD63-0DDF-48BB-A3D6-7802A6902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242274-9AC6-4122-9301-D192C569E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F094178-1CC3-4802-950E-952AB34F5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3F833-9382-4BA1-AFFB-0CD218279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9146561-AF46-4E84-BF22-3527439E0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6B5DF22-66DF-4EEB-8832-899ACD397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EE718AC-58E4-4BEB-9450-1E641CA26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7426F2-6634-46DD-8F67-C7A80671BF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B249A-B0FD-4D2A-A28E-D227F573B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16CDB39-3CD7-450D-9497-8D49C13C9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986E78B-DB4A-4C4D-97E7-79FDFA09B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011860-91B1-4E0B-A8EB-5B6023EEC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9CBE8A8-FB1D-4E88-8628-F36DC06B1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DA27B94-54A7-4B54-BE60-56C013F48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B7FC4-D561-4E25-8EBD-77EF644DA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49024BE-4286-4853-BDE3-972DCA73E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91B891-FBC7-458C-923F-2F2BA96B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B88B0F-0A58-4CFF-B61E-7B26A7AB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F000B10-9E76-49C0-BCDE-94D8098AF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A514586-29DB-46BE-AB9F-4517BE9B4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1BE3683-1758-40F4-8227-928C91795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624F067-757D-42F9-877F-D7601BFDE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A78734-5C9C-48F2-BAA4-B901C30FC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7EEDCC-5801-4295-9719-038737E61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9DC5-0773-4AA4-9356-C94857FC9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47384-ED06-4B4B-98F9-55D3ABEE4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F2349-6159-46F2-BAEA-584E2D60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327AD-7BAD-451A-8E73-8436ED11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70D7D-B83D-4B8C-AAB4-16164BE6F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3DBBD-C7FB-40EC-A3B8-570226BA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7DD2E-E3D7-48F8-82A0-38998EF5B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94E36-61D8-436F-B813-B0935B501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CC7591-1A03-4275-9818-0E56EB389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BAE7D-2DF7-4F7A-A110-D84621553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DBAF2C-1C8E-4B7D-98FA-A1E4595B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2D29-75E3-4476-9EAB-59A9E377D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D8319F-8D23-4E70-9FD7-5CEA19777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02A42C-0121-4691-B01C-C5C1B7349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C5F76A-36D3-4E55-B292-CDC7FF6CF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D9D247-FE38-4648-A533-860E16932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72389C-C296-46DE-9764-72CA407C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C1B0D-E0B6-447F-AF61-BFD7E6C30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844EAC-1F61-4C4B-AB3C-DA0E535FF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39F518-BF39-40E5-91D1-8182ED48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817A88-D9A5-4442-86A4-432D5705F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337BB1-B381-46E5-8384-30943A862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8B79-1B37-457B-B0C6-61A33A7E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90B244-7F99-424D-B26E-D39A456A3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2A9617-D4EE-4FC7-BED3-CC22D7DBF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869041-16C3-47B1-A091-6D6B2EA8D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0DDE9-6867-455A-B0AA-40D0A104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DE7528-263D-42DF-82EA-6BC57748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3179FD-3B64-4943-B555-68FB8E873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53EC0B-2B78-478F-AFA7-DC9237F9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C2E276-2C1B-4D03-8332-D3D2FE445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051AED-9508-492E-AF45-1BFE1871C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7E738-5004-4A3D-B91F-A1CD72C6C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ADC7-7255-4D4C-90C4-F4FA95F27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F75BFB-9619-4827-A8B4-971D69BBB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EB0099-EAF6-465F-81F5-AD890DBCE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CF354A-5E8B-46E3-86C0-C66E8C440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42824F-9504-42AB-B360-8D72DCC79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140DF9-687C-4D0B-A6B0-816F1197A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69607-6148-4815-B9B3-E8F294ABF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D77291-63D2-4331-8476-C700578D2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24DEB9-07FD-4BC6-87B4-C32C5350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D13A1-A293-4566-825E-4EAA616FA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B9817-8BB3-4868-A14E-F2BDBD194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946B-E1CB-4DC5-825B-CA91EAE77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642377-70D7-46F3-9C93-DE9E36987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3A1F29-B21D-4429-A0B9-1BD1E9C77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7F03C-A4EE-4FB5-BF5F-1BE1467C8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67A5F-BF92-45BD-B554-C0B4F57F55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B0B739-EDD3-48AE-B320-AED3FC7CD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A5F20A-0216-417C-8558-F15E46E3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6712BA-2C68-400B-B5D0-30C005FEB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EA9EA-8BA5-408C-9F5E-A2E27FE47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7177B9-E095-4733-AF76-9D629F32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12E95B-BF7B-4DDF-980F-596F5124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59CA6-FE15-4FD0-9B75-01E25333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141F4B-BF34-498C-9B00-7A2F46CD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82FAAE-A4E1-48C0-A682-F69FF510F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0A57F-5862-4E1E-8191-30ED68C8D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BD7604-32BE-4502-9B7D-750F61BF7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E755D-1FC5-4610-8C97-6A3E5DC5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A3E82-DCEB-4367-8C56-5F720012B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810809-7FA9-4E54-B5B9-9EA4E90E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F092FC-03A5-4B66-BB92-6A449885E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41C7A7-2E13-4FE2-BA1B-A332E4A56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0284E8-63AA-4116-8933-B4EB1881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AA803-70EF-4F9C-842B-09BA4DEC8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77C43E-7AF0-494C-9B77-B979CBB8A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3BF8A4-1230-45D6-8A06-AFDC43D94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91973-2B3B-4B3E-9D35-ACBD52291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291C57-624F-48CF-AEC8-8EF07B87E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DDAD6-3337-44A2-85A9-C5BF692D5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22F65-EF7F-4D09-A655-0CE973AE9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9C3E6E-2210-4291-865B-3DE78D2CB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5A49BE3-6E05-47BD-9BBA-76F9D0628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3F3A7E-BA0A-42AE-B489-94D217800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5F6F86-F4DE-4F35-9530-C8E31E0EE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9DA23-750C-4009-82D9-50326F18853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7A6A8-FCF7-440E-93BF-55F415D8D3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DA45-7133-4819-9626-99C42E84D8E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417F-47D0-454B-AB25-CE7AD8D0CB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4F6F1-099C-477E-B164-B0058DF2D7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9F678-C839-4A96-9607-8CCD4A68724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06EE-2FC1-4ADA-8198-485F35916A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730FB-601D-417B-AE5E-311977850B0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E9F53-4762-4589-9BB7-2BF66550CD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22BBD-5FDB-4006-B61E-6FBD6FE2E4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D8CC3-D9CC-4924-BD0E-7BCBCB68B9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EAE33-C1BC-4FEA-A2E9-291EB4C2CC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A1C22-5B91-43D7-AA0F-E0889D66EBD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F120-0849-4CC5-A6CB-5769693FC11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F33EF-C17D-4533-97CB-679F28E7F5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A113-2DF8-4774-A665-D8DEB6B0F80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5EFA0-EF39-4C1B-93B3-4612C34BE4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DC5DD-D5D5-4E75-A503-99B0A76232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E9D2D-4CEF-4D1E-8551-B1A87BAAB07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A09FD-FDDB-476C-B69F-71AC0B6D95D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27871-ACE0-47FB-AE7F-6C42CC2D84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2530-5030-453C-8AF1-2358A4C076E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EDD76-D9E6-45E8-9BE3-8FA76155E95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1581-D26D-422F-A820-025F1848ACC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2AC64-88F9-4CF2-A304-520CA7C421D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7CFD5-BFBB-4BC2-AE20-1ECD85233E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603ED-9986-44BC-8FB2-05E31FDDB0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BD9A2-B206-4F30-B02A-A59E36715C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8834B-122A-4D0A-B76D-5AAAD9640C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87536-5F84-44E6-9111-3BFA227ED7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EEBF9-FC2C-4286-A582-57CBAE174E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1FC3-5DF1-405D-860E-865C0C16E7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889A1-5666-4D28-AA7E-576332BECCA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519DD-49C8-48D3-A88E-4B6DF0DDEDE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C1BD6-4A67-4B14-B619-23B82762A1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9A0A4-7DDB-4B64-8A49-CEFF2D0B2E1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98C3-A724-40D3-B210-1CAD86F5E19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6F168-397A-4115-B234-69E8A91F7B6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E5F57-1BEE-47FF-B4EC-7331E0DB6E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8758-6BAD-457B-B81A-35FB1F4484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93BB-5BDB-491B-8E47-4AA536B7F21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069FE-BD2D-4BEF-860B-B4AED9E7766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2395440" y="2876400"/>
            <a:ext cx="4353120" cy="11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66680" y="755640"/>
            <a:ext cx="8809200" cy="589608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236520" y="198756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250920" y="2577960"/>
            <a:ext cx="86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250920" y="3156120"/>
            <a:ext cx="8642160" cy="4060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1" descr=""/>
          <p:cNvPicPr/>
          <p:nvPr/>
        </p:nvPicPr>
        <p:blipFill>
          <a:blip r:embed="rId5"/>
          <a:stretch/>
        </p:blipFill>
        <p:spPr>
          <a:xfrm>
            <a:off x="250920" y="3773520"/>
            <a:ext cx="8611920" cy="40644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6"/>
          <a:stretch/>
        </p:blipFill>
        <p:spPr>
          <a:xfrm>
            <a:off x="236520" y="436392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7"/>
          <a:stretch/>
        </p:blipFill>
        <p:spPr>
          <a:xfrm>
            <a:off x="250920" y="4941720"/>
            <a:ext cx="86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8"/>
          <a:stretch/>
        </p:blipFill>
        <p:spPr>
          <a:xfrm>
            <a:off x="250920" y="5545080"/>
            <a:ext cx="8642160" cy="40644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1" descr=""/>
          <p:cNvPicPr/>
          <p:nvPr/>
        </p:nvPicPr>
        <p:blipFill>
          <a:blip r:embed="rId9"/>
          <a:stretch/>
        </p:blipFill>
        <p:spPr>
          <a:xfrm>
            <a:off x="250920" y="6135840"/>
            <a:ext cx="8611920" cy="40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8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3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8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图片 1" descr=""/>
          <p:cNvPicPr/>
          <p:nvPr/>
        </p:nvPicPr>
        <p:blipFill>
          <a:blip r:embed="rId1"/>
          <a:stretch/>
        </p:blipFill>
        <p:spPr>
          <a:xfrm>
            <a:off x="223920" y="1824120"/>
            <a:ext cx="8694720" cy="320976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2"/>
          <a:stretch/>
        </p:blipFill>
        <p:spPr>
          <a:xfrm>
            <a:off x="179280" y="190188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3"/>
          <a:stretch/>
        </p:blipFill>
        <p:spPr>
          <a:xfrm>
            <a:off x="222120" y="249228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4"/>
          <a:stretch/>
        </p:blipFill>
        <p:spPr>
          <a:xfrm>
            <a:off x="222120" y="306864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" descr=""/>
          <p:cNvPicPr/>
          <p:nvPr/>
        </p:nvPicPr>
        <p:blipFill>
          <a:blip r:embed="rId5"/>
          <a:stretch/>
        </p:blipFill>
        <p:spPr>
          <a:xfrm>
            <a:off x="250920" y="3687840"/>
            <a:ext cx="8713800" cy="40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" descr=""/>
          <p:cNvPicPr/>
          <p:nvPr/>
        </p:nvPicPr>
        <p:blipFill>
          <a:blip r:embed="rId6"/>
          <a:stretch/>
        </p:blipFill>
        <p:spPr>
          <a:xfrm>
            <a:off x="250920" y="4276800"/>
            <a:ext cx="871380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0" dur="500"/>
                                        <p:tgtEl>
                                          <p:spTgt spid="1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42920" y="1666800"/>
            <a:ext cx="885816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200160" y="1914480"/>
            <a:ext cx="87436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547560" y="1176480"/>
            <a:ext cx="8047080" cy="45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85760" y="1095480"/>
            <a:ext cx="8771040" cy="466704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3851280" y="1657440"/>
            <a:ext cx="2016000" cy="406440"/>
          </a:xfrm>
          <a:prstGeom prst="rect">
            <a:avLst/>
          </a:prstGeom>
          <a:ln w="0">
            <a:noFill/>
          </a:ln>
        </p:spPr>
      </p:pic>
      <p:pic>
        <p:nvPicPr>
          <p:cNvPr id="1112" name="Picture 1" descr=""/>
          <p:cNvPicPr/>
          <p:nvPr/>
        </p:nvPicPr>
        <p:blipFill>
          <a:blip r:embed="rId3"/>
          <a:stretch/>
        </p:blipFill>
        <p:spPr>
          <a:xfrm>
            <a:off x="7956720" y="1657440"/>
            <a:ext cx="1187280" cy="40644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4"/>
          <a:stretch/>
        </p:blipFill>
        <p:spPr>
          <a:xfrm>
            <a:off x="250920" y="2262240"/>
            <a:ext cx="3097080" cy="40644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5"/>
          <a:stretch/>
        </p:blipFill>
        <p:spPr>
          <a:xfrm>
            <a:off x="4356000" y="2852640"/>
            <a:ext cx="3384720" cy="4064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6"/>
          <a:stretch/>
        </p:blipFill>
        <p:spPr>
          <a:xfrm>
            <a:off x="2050920" y="3457440"/>
            <a:ext cx="2305080" cy="40644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7"/>
          <a:stretch/>
        </p:blipFill>
        <p:spPr>
          <a:xfrm>
            <a:off x="4356000" y="4033800"/>
            <a:ext cx="4788000" cy="40644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8"/>
          <a:stretch/>
        </p:blipFill>
        <p:spPr>
          <a:xfrm>
            <a:off x="250920" y="4638600"/>
            <a:ext cx="2017440" cy="40644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9"/>
          <a:stretch/>
        </p:blipFill>
        <p:spPr>
          <a:xfrm>
            <a:off x="5796000" y="5229360"/>
            <a:ext cx="230508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9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9" name="图片 1" descr=""/>
          <p:cNvPicPr/>
          <p:nvPr/>
        </p:nvPicPr>
        <p:blipFill>
          <a:blip r:embed="rId1"/>
          <a:stretch/>
        </p:blipFill>
        <p:spPr>
          <a:xfrm>
            <a:off x="185760" y="1419120"/>
            <a:ext cx="8771040" cy="401976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2"/>
          <a:stretch/>
        </p:blipFill>
        <p:spPr>
          <a:xfrm>
            <a:off x="3203640" y="1469880"/>
            <a:ext cx="2089080" cy="4064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3"/>
          <a:stretch/>
        </p:blipFill>
        <p:spPr>
          <a:xfrm>
            <a:off x="826920" y="2637000"/>
            <a:ext cx="1800360" cy="40608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4"/>
          <a:stretch/>
        </p:blipFill>
        <p:spPr>
          <a:xfrm>
            <a:off x="5940360" y="2637000"/>
            <a:ext cx="1800360" cy="4060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5"/>
          <a:stretch/>
        </p:blipFill>
        <p:spPr>
          <a:xfrm>
            <a:off x="4284720" y="3241800"/>
            <a:ext cx="2374920" cy="40644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6"/>
          <a:stretch/>
        </p:blipFill>
        <p:spPr>
          <a:xfrm>
            <a:off x="1619280" y="3832200"/>
            <a:ext cx="1008000" cy="4064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7"/>
          <a:stretch/>
        </p:blipFill>
        <p:spPr>
          <a:xfrm>
            <a:off x="3059280" y="4437000"/>
            <a:ext cx="568944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图片 1" descr=""/>
          <p:cNvPicPr/>
          <p:nvPr/>
        </p:nvPicPr>
        <p:blipFill>
          <a:blip r:embed="rId1"/>
          <a:stretch/>
        </p:blipFill>
        <p:spPr>
          <a:xfrm>
            <a:off x="209520" y="760320"/>
            <a:ext cx="8724960" cy="3562560"/>
          </a:xfrm>
          <a:prstGeom prst="rect">
            <a:avLst/>
          </a:prstGeom>
          <a:ln w="0">
            <a:noFill/>
          </a:ln>
        </p:spPr>
      </p:pic>
      <p:pic>
        <p:nvPicPr>
          <p:cNvPr id="1127" name="图片 2" descr=""/>
          <p:cNvPicPr/>
          <p:nvPr/>
        </p:nvPicPr>
        <p:blipFill>
          <a:blip r:embed="rId2"/>
          <a:stretch/>
        </p:blipFill>
        <p:spPr>
          <a:xfrm>
            <a:off x="209520" y="4460760"/>
            <a:ext cx="865836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8" name="图片 1" descr=""/>
          <p:cNvPicPr/>
          <p:nvPr/>
        </p:nvPicPr>
        <p:blipFill>
          <a:blip r:embed="rId1"/>
          <a:stretch/>
        </p:blipFill>
        <p:spPr>
          <a:xfrm>
            <a:off x="133200" y="1104840"/>
            <a:ext cx="887760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9" name="图片 1" descr=""/>
          <p:cNvPicPr/>
          <p:nvPr/>
        </p:nvPicPr>
        <p:blipFill>
          <a:blip r:embed="rId1"/>
          <a:stretch/>
        </p:blipFill>
        <p:spPr>
          <a:xfrm>
            <a:off x="679320" y="390600"/>
            <a:ext cx="7645680" cy="640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49:16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